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A2B-5F6B-4F35-A9D2-30DD2F78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2B5-51E9-46AD-B3AA-FAA00943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5EC-4838-4C17-B10E-B119924E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619-7089-4EBB-BD83-552E04B0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69A2-E3A9-4D17-AB66-7883FD53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2476-487F-4C7E-BF4C-8E70AF55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76E-590B-4338-B11E-E0B22F2C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8206-810E-49E5-84AD-573E8BE5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A6B1-9EDA-4E66-A8DE-F58586BD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76B6-E841-4ECA-A2A7-4D068F48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A52A-853C-49CC-9CF8-20F4DB87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BBD-8438-4A7D-9D34-F7AC4182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07CB-BD79-4F62-8BDB-9C751FC5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67F9-4FCA-468B-995D-2FAEA220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6F18-CF8C-426B-83BB-C5FA0B9B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BE70-2100-4994-A211-70E0A93E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7352-88C1-4A39-9D1C-054787AA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E34-56E3-467F-A402-8F3C8700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0B9-3220-4EF6-9471-95693A14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EF4-CC23-4D64-AB63-B96F44E1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D5B-274F-46A7-9B01-744D340F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C2E-62D1-4546-996B-7CA2AC8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23B-7425-4271-960D-765079BE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4B2-816E-42AC-93B2-C8F7EC5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B003-7DB5-45CE-94B3-D58E112CAEB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31FE-6DDB-4874-9591-259463FF965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nited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5, Lesson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ngs 9 –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26-1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2819520"/>
            <a:ext cx="632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13 and 14 have been combined into one class lesson.  This will allow us to expand some lessons later in this quar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57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 Appears To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-9; 2 Chron. 7:11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 accepted the temple as a house of sacrifice for as long as th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bled themselves, and p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God and turn from wicked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He will hear them, forgive them, and will heal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omon must walk like his father and keep God’s command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d Appears To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-9; 2 Chron. 7:11-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urn from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sake God’s commandm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and serve other go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cut off Israel from the l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cast this house out of His s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ill make it a proverb and byword among all the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ng Hiram Unhappy With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0-14; 2 Chron. 8: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ruction projects took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ram given 20 cities in Galilee as payment for the trees and 4 ½ tons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ram, displeased, gave the cities back as being worth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lled the cities “Cabul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rty, sandy, dry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 Works of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9:15-27; 2 Chron. 8:3-10, 17-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building projects 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, fortified and enlarged severa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taxes from non-Israe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sraelites for soldiers, servants, officers, command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d a navy in the Mediterranean and the Red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alth of Solomon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0:11-12, 14-29; 2 Chron. 9:13-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nor guards had shields of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avy brought in tons of gold from trades, taxes, tributes and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 horses and cha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me from everywher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his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ar his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ring g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een of Sheba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0:1-13; 2 Chron. 9:1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ba - located in southwestern part of Ara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en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ught spices, gold, and precious stones to Solo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Solomon’s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we of Solomon’s wealth and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omon gave her gifts as she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01:44:20Z</dcterms:created>
  <dc:creator>Frank D Vines</dc:creator>
  <dc:description/>
  <dc:language>en-US</dc:language>
  <cp:lastModifiedBy>Frank D Vines</cp:lastModifiedBy>
  <dcterms:modified xsi:type="dcterms:W3CDTF">2005-08-21T13:25:35Z</dcterms:modified>
  <cp:revision>16</cp:revision>
  <dc:subject/>
  <dc:title>“Give Us A King” The United Kingdom</dc:title>
</cp:coreProperties>
</file>